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163-A7CD-4386-98F9-35DB0328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BCA-E020-4CE8-BE55-A614346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FF8-A9FC-46DD-B3B4-AB160D0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C83-0EB1-4FC9-ADE9-6C249763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B6D8-05F7-4876-BC6D-2180C683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15C7-52FE-42C0-8684-1BDDC03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BD78-0766-4CE4-B509-58843C53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D93C-8C07-4C77-AEAF-4FF6EC0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D646-EC55-4914-B275-BF854CF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C5E-71A1-44AB-A7BE-B8F7AE5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9EB-9C16-49E7-B50A-3A1F213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FF9-2B53-49F1-9457-1A9DF61B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C469-DE5B-4323-9697-2C977A3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145-8CB2-4664-B4E5-A54DA8D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94A-28F9-4A09-9E55-8109836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0A52-C779-414D-837A-B6C470AB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4FC-7A1A-4CEF-AD81-8B4BAB71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BF6-3B7D-4325-A23F-539ACB22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88B-84AE-4EED-AFFE-38E7A0B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6D4-7DC8-47E5-8E0B-D432F989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73E-C25F-4185-B43E-B7900DC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975-5171-402A-9627-D34CEFD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424-2653-451B-92FF-50BDECD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87A-1D4D-4DAC-98DB-A3B23BD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E4F-88F6-4F35-86CA-F4B87BCF7C36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AB9E-14C7-4FB3-8351-4EB106A9F36A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o.wikipedia.org/wiki/Turbin&#259;_cu_abur" TargetMode="External"/><Relationship Id="rId2" Type="http://schemas.openxmlformats.org/officeDocument/2006/relationships/hyperlink" Target="http://www.spdzoom.ro/articol.php?id=107&amp;SSID=48706695d851eb262c8cade4d45a930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Fenomene termice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Peczi Olg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ro.wikipedia.org/wiki/Turbin%C4%83_cu_abu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spdzoom.ro/articol.php?id=107&amp;SSID=48706695d851eb262c8cade4d45a9309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oina Turcitu, Mihaela Iancu, Magda Panaghianu, Fizică 7- manual , Editura Radical, Craiova 2008, ISBN 978-973-8386-41-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difuzia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5554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Difuzia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este răspândirea spontană a particulelor unui corp printre particulelor altui corp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bs: - difuzia este mai intensă la temperaturi mai mari ( ceaiul se colorează mai mult dacă apa este fierbinte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- este ireversibilă. Fenomen invers difuziei nu există. (datorită difuziei Luna nu are atmosferă, atracţia gravitaţională a Lunii este prea slabă şi nu poate împiedica difuzia aerului în spaţiu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c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ăldur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Căldura (Q)  este forma de transfer a energiei între corpuri aflate în contact termic, datorită diferenţei de temperatur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Unitate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m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ăsură în S.I. 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       = Jo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în practică : 1</a:t>
            </a:r>
            <a:r>
              <a:rPr b="0" lang="ro-RO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 4,18 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3933720"/>
                <a:ext cx="4464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Temperatur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define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şte, starea termică a corpurilo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Unitate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m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ăsură în S.I. :Kelv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T ] =Kelv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în practic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 grade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Relaţia dintre cele scările termometri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[K] = t [ grade Celsius] + 273,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O variaţie (creştere sau scădere) a temperaturii are aceeaşi valoare în grade Celsius sau în Kelvin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  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0080" y="2733840"/>
                <a:ext cx="7776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55640" y="5516640"/>
                <a:ext cx="51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35280" y="5516640"/>
                <a:ext cx="51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Transferul căldur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Unele materiale, care împiedică transferul căldurii se numesc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izolatoare termice.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Exemple: - lemnul, lâna, sticl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acă stai într-o cabană din material izolator, vara nu se încălzeşte excesiv, iar eşti ferit de fri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Un bun izolator termic este aerul- ferestrele au câte două geamuri şi aerul dintre ele asigură izolaţie termică, astfel încât iarna să nu fie prea frig în cas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Materialele care furnizează transferul căldurii se numesc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conductoare termice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. Exemple: metale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acă o bară din material conductor termic este încălzit la un capăt în scurt timp şi celălalt capăt se încălzeşte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sunt combustibilii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564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Combustibilii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– sunt substanţe sau amestecuri de substanţe, care în urma unei reacţii chimice de ardere produc o mare cantitate de căldur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Clasificarea combustibilil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upă starea de agregare: solizi, lichizi, gazoş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upă modul de obţinere:- natural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artifici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Puterea calorică (q ) – este cantitatea de căldură degajată (Q ) la arderea unui kilogram de substanţ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Unitatea de măsură în S.I.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pentru solizi şi lichizi :J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pentru gazoşi: J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metru cu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184880" y="3894120"/>
                <a:ext cx="14796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 este un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otor termic si cum functionează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toarele termice cu piston, transformă energia termică (căldura) rezultată prin arderea combustibililor în lucru mecanic şi în energie calorică disipativă (căldură pierdut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ucrul mecanic se manifestă sub forma mişcării rectilinii şi alternative a pistoanelor, care este,la rândul ei, transformată în mişcare de rotaţie a arborelui cotit cu ajutorul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canismului bielă-manivel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Motorul cu ardere externă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xemple: locomotiva cu abur, turbina cu abur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321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Motorul cu ardere internă</a:t>
            </a:r>
            <a:br>
              <a:rPr sz="3200"/>
            </a:b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xemple: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motorul Otto, motorul Diesel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6280" y="1827360"/>
            <a:ext cx="357516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81560" y="2311560"/>
            <a:ext cx="32655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aaa</dc:creator>
  <dc:description/>
  <dc:language>en-US</dc:language>
  <cp:lastModifiedBy>aaa</cp:lastModifiedBy>
  <dcterms:modified xsi:type="dcterms:W3CDTF">2010-05-25T19:59:10Z</dcterms:modified>
  <cp:revision>10</cp:revision>
  <dc:subject/>
  <dc:title>Fenomene termice </dc:title>
</cp:coreProperties>
</file>